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CAB5-0026-4B11-92F7-664ACB39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967-4008-41F8-A9FC-3B57617E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EF70-BA1F-46E4-B1BB-E7C01D81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55E-DFD9-4012-81FE-4136EA49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46D-F24A-48F3-A0D7-E054E7E8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A3D-83A8-47C2-997B-CEB79158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058-FDCD-412F-8420-C15CFA73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8DA-8083-4EDB-B1DC-A4E7E945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36B-0BAF-467B-BD63-77FECEE2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616-2CEF-41FB-85B2-7A3BC8FC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658D-1562-4987-9617-3C543AC1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3D0-3A9A-4412-BE48-E821D641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FD08-D45A-4ED2-A010-4B5DE3AED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04640"/>
            <a:ext cx="2737080" cy="1872000"/>
          </a:xfrm>
          <a:prstGeom prst="rect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149720"/>
            <a:ext cx="2737080" cy="187164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4149720"/>
            <a:ext cx="2736720" cy="1871640"/>
          </a:xfrm>
          <a:prstGeom prst="rect">
            <a:avLst/>
          </a:prstGeom>
          <a:solidFill>
            <a:srgbClr val="e8021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12000" y="4149720"/>
            <a:ext cx="2736720" cy="1871640"/>
          </a:xfrm>
          <a:prstGeom prst="rect">
            <a:avLst/>
          </a:prstGeom>
          <a:solidFill>
            <a:srgbClr val="9900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276640"/>
            <a:ext cx="2736720" cy="1871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2276640"/>
            <a:ext cx="2736720" cy="187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04640"/>
            <a:ext cx="2736720" cy="1872000"/>
          </a:xfrm>
          <a:prstGeom prst="rect">
            <a:avLst/>
          </a:prstGeom>
          <a:solidFill>
            <a:srgbClr val="9966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404640"/>
            <a:ext cx="2736720" cy="18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2276640"/>
            <a:ext cx="2737080" cy="1871640"/>
          </a:xfrm>
          <a:prstGeom prst="rect">
            <a:avLst/>
          </a:prstGeom>
          <a:solidFill>
            <a:srgbClr val="ff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76500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92428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24360" y="119700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299736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1197000"/>
            <a:ext cx="12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76360" y="549360"/>
            <a:ext cx="67644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093080" y="549360"/>
            <a:ext cx="6760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47640" y="2421000"/>
            <a:ext cx="67644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11640" y="2421000"/>
            <a:ext cx="67644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093080" y="4292640"/>
            <a:ext cx="6760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11640" y="620640"/>
            <a:ext cx="67644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40360" y="4365720"/>
            <a:ext cx="6760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547640" y="4221000"/>
            <a:ext cx="67644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093080" y="2492280"/>
            <a:ext cx="67608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19:02:58Z</dcterms:created>
  <dc:creator>Helen</dc:creator>
  <dc:description/>
  <dc:language>en-US</dc:language>
  <cp:lastModifiedBy>Helen</cp:lastModifiedBy>
  <dcterms:modified xsi:type="dcterms:W3CDTF">2007-06-26T19:03:32Z</dcterms:modified>
  <cp:revision>1</cp:revision>
  <dc:subject/>
  <dc:title>Slide 1</dc:title>
</cp:coreProperties>
</file>